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C358-CB9D-4BBF-813B-C481150EA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3875-6D5E-4E85-AD86-961F4990E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006B-B9B2-4A4E-AE83-9B9639262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7E9C-CA59-4179-80AF-28F70C52C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0AA4-DCCA-44C1-8400-7A54BA88D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541E-46FD-48FF-8505-7E573EB3B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E6C7-326B-4E40-93AD-9389D7A7C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521D-010B-44EA-B8D0-9BD69D91C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5443-12AC-4101-9760-1561C5F0D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285C-7736-4892-A8C7-7ABB0416E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829C-5CEE-419C-99DB-0F11FDD40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6BAA-47B9-4C8F-81E3-8269F494C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D2B6F-C846-44B4-AF28-533944250B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Lenguaje periodíst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ier Benítez Láine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itulares prototíp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ujeto + animado + ac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Gallardón propone una alianza Madrid-Barcelona. (LP- 21-2-200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os socios del gobierno atacan la ley de partidos. (EM- 21-2-07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 PP ordena a su militancia que se movilice aunque prefiere una campaña de perfil bajo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EP- 21-2-07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Titulares tipo "Algo es causa de algo"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ujeto - animado y + ac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Una explosión en una mina de Colombia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ausa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25 muertos (EP- 5, Febrero, 200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s inundaciones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arrasan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Yakarta (EP- 5, Febrero, 2007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 Guerra de Irak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divide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a los candidatos republicanos a los presidenciales de 2008. (EM- 29, Enero, 2007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" dur="2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" dur="5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Titulares del tipo "Alguien experimenta algo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ujeto + animado y – ac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ultados con 180€ tres jovenes por poner los pies en un banco. (EP- 26, Enero, 200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Vicente cae en su mejor momento. (EM- 6, Febrero, 2007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etenido en Francia un miembro del aparato logístico de ETA. (LP- 14, Febrero, 200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Titulares del tipo "Algo experimenta un cambio, un proceso..." o "Algo esta en tal estado..."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637000"/>
            <a:ext cx="8229600" cy="34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ujeto - animado, - ac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 número de oficinas crecerá un 80% en Valencia en 4 años (LP- 16, Febrero, 200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asignatura de ciudadanía recibe nuevas críticas (LP- 21, Febrero, 200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pintada de la Lonja se limpia con piqueta (LV- 24, Enero, 200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5" dur="2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Titulares con la forma de sintagma nomi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grimas i poesía en Calp (Le- 12-2-200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is muertos en la cueva de Tenerife (Le- 12-2-2007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mergencia en la isla de los Lagartos (EP- 5-2-200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6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98" dur="2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"/>
              </a:rPr>
              <a:t>Titulares con subordinad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 gobierno cree que Batasuna prepara el terreno para intentar acudir a las municipales. (EP- 27, Febrero, 200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ata ve increíble que nadie del PP dimita tras años de escándalos. (EP- 27, Febrero, 2007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srael acepta que un equipo de arqueólogos turcos vigile las obras de la Explanada de las Mezquitas. (Pais, 16 - 2 - 200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"/>
              </a:rPr>
              <a:t>Titulares con verbo en pasi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etenidos en Italia otros cuatro miembros de las Brigadas Roj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Una mujer y un bebe heridos al caer un andamio por el vient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etenido un joven de 18 años por maltratar a su madr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Los verbos de a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os verbos de acción mas frecuentes en los titulares son los "verbos de decir" com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pon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"Gallardón propone una alianza Madrid-Barcelona.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Rechaza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"El congreso rechaza ilegalizar al PCTV.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aca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"Los socios del gobierno atacan la ley de partidos.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Admitir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denunciar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riticar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pedir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prohibir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decir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reclamar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alertar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acusar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exigir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9T10:28:53Z</dcterms:created>
  <dc:creator>Javier</dc:creator>
  <dc:description/>
  <dc:language>en-US</dc:language>
  <cp:lastModifiedBy>Javier</cp:lastModifiedBy>
  <dcterms:modified xsi:type="dcterms:W3CDTF">2008-01-29T10:51:13Z</dcterms:modified>
  <cp:revision>2</cp:revision>
  <dc:subject/>
  <dc:title>Lenguaje periodístico</dc:title>
</cp:coreProperties>
</file>